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F8D-1E14-4739-9B4E-381CE539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723-AB4F-4F75-B335-0E5E8BEE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9C2-B5D6-4916-96DA-1BD309DD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0F1-86ED-4140-A2A7-A094662E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AE3D-E3A6-497F-A73A-35FCBEBC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EAE1-FBE8-44DC-B25B-55219716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AC6B-30E7-44DC-9DCE-124BDF62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C61A-4301-46E1-A530-221FC920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A49E-5C3F-4DE4-86FC-4ECA0C88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DCF7-B1D1-4256-A9D5-0DC8184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460F-54EC-4FD3-931B-59A3750F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731-FC61-4790-9141-16DF4A59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052C-F9BC-4ECE-9717-8E6D0317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062D-E010-4CC9-8A6B-7BD75491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CD9B-6751-4F5A-B415-FDBEC369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A457-B27D-4E22-885D-BBE16668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FF2C-2ABA-42CA-A4E6-7A27B9C1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EE7-52FD-45B1-89D0-6E060E84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578-19A1-470B-A7DC-0844E65D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E96-65B4-4F50-BE05-4CDDE5CD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81E-9B5D-4F3F-AD98-93D4763A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8E2-7C0D-404A-80D0-25D8E396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A5C-232F-43D8-95FE-929935EB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8E5-26D0-4F6D-8FB6-0992062E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7465-A82A-4552-B636-5EF55200DE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E476-08B3-4BCE-BF78-5498E20056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etwork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sons, June Jamrich, and Dan Oja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Computer Concept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Boston: Course Technology - Thompson Learning, 2002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or more computers and other devices (printers or scanners) that are connected, for the purpose of sharing data and program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52880" y="2081160"/>
            <a:ext cx="3505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Te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l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computer connected to a network that distributes resources to other us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ains the software to manage and process files for other network us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st Compu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any computer that provides services to network us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d more commonly with the Interne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Terms (continue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rks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a personal computer connected to a networ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omputer in the classro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the software on a computer that allows the user to access 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vell Ne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Interface Card (NIC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2920" y="17521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mall circuit board that converts the digital signals from a computer into signals that can travel over a networ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sktop Computers have the NIC inside the case with a jack on the outside for the network cab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ur classroom comput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tebook or Laptop Computers have a special card that fits into a slot or opening in the ca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icture on this slide is the NIC for a Notebook or Lapto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6465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Connections De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sends and receives data to and from computers over telephone li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ub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connects several components of a networ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ut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connects at least two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serves as an entrance to another net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l of these can be used alone or combin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cal Area Network (LA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network that is located within a limited geographical area, such as a school or small busi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PGHS Networ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683160" y="2162160"/>
            <a:ext cx="17683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de Area Network (WA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ed group of computers and peripherals that cover a large geographical area, such as multiple build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Alpine School District Networ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27608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P Addres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unique identifying number assigned to each computer connected to the inter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 – 204.127.102.00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computer on a network should have its own separate IP Address or conflicts will occur when there are duplicate addre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8:11:27Z</dcterms:created>
  <dc:creator>Michelle Guymon</dc:creator>
  <dc:description/>
  <dc:language>en-US</dc:language>
  <cp:lastModifiedBy>Brad Schmidt</cp:lastModifiedBy>
  <dcterms:modified xsi:type="dcterms:W3CDTF">2005-10-10T16:15:32Z</dcterms:modified>
  <cp:revision>27</cp:revision>
  <dc:subject/>
  <dc:title>Networks</dc:title>
</cp:coreProperties>
</file>